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B9C8-8329-4AD8-8E2E-88476FBD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299-CC13-4DD2-B67B-763ADCB6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064-E2C2-4872-BA67-B12C2C45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B6CE-7A3F-4046-ACF3-3141C74D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65F5-D9C6-464B-AC09-021AAE5B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C1E1-DB9B-4766-858D-79B7D0F6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7D4A-1EE9-4059-9F62-10427F4F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4625-C72C-40D9-A40A-6CA9BDB2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590C-D719-4750-B7A9-923F9F55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C5D-47A6-4AD4-99F5-533719A0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9200-6FB4-48EE-B035-ECEFC58B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B53A-1AAF-4225-9B76-37044F2D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61C0-E7D9-47EA-A25D-FB075D0CD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of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lima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solid changes directly to gas without passing through the liquid phas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: dry 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solid’s vapor pressure exceeds atmospheric pressure at or near room temperatu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seful for separating substances and purifying compound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1.bp.blogspot.com/_B-CKCNJUt8w/TINjM0n0M0I/AAAAAAAAA9A/X3u5n-kCaGw/s400/dry-ice.jpg"/>
          <p:cNvPicPr/>
          <p:nvPr/>
        </p:nvPicPr>
        <p:blipFill>
          <a:blip r:embed="rId1"/>
          <a:stretch/>
        </p:blipFill>
        <p:spPr>
          <a:xfrm>
            <a:off x="2743200" y="2590920"/>
            <a:ext cx="27637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se 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tical point- point at which the substance can no longer exist as a liqui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ple point- describes the only set of conditions at which all three phases can exist in equilibrium with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serc.carleton.edu/images/research_education/equilibria/h2o_phase_diagram_-_color.v2.jpg"/>
          <p:cNvPicPr/>
          <p:nvPr/>
        </p:nvPicPr>
        <p:blipFill>
          <a:blip r:embed="rId1"/>
          <a:stretch/>
        </p:blipFill>
        <p:spPr>
          <a:xfrm>
            <a:off x="2438280" y="3200400"/>
            <a:ext cx="345924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se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www.uwgb.edu/dutchs/Graphics-Geol/ROCKMIN/MetPhaseDiagrams/H2OPhase.gif"/>
          <p:cNvPicPr/>
          <p:nvPr/>
        </p:nvPicPr>
        <p:blipFill>
          <a:blip r:embed="rId1"/>
          <a:stretch/>
        </p:blipFill>
        <p:spPr>
          <a:xfrm>
            <a:off x="2209680" y="1371600"/>
            <a:ext cx="384840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6:57:18Z</dcterms:created>
  <dc:creator>14kjordan</dc:creator>
  <dc:description/>
  <dc:language>en-US</dc:language>
  <cp:lastModifiedBy>14kjordan</cp:lastModifiedBy>
  <dcterms:modified xsi:type="dcterms:W3CDTF">2012-04-26T17:15:02Z</dcterms:modified>
  <cp:revision>2</cp:revision>
  <dc:subject/>
  <dc:title>Changes of State</dc:title>
</cp:coreProperties>
</file>